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09A-5D5D-4496-A3A2-6F18D914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4CE-05FF-4E4F-8EC8-9CE6CDB6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2BE-E5EA-4F21-9607-78F0CD69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9C2-86A7-4623-BA77-A3110AE4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B70-FDE3-4ACE-BD15-F372403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81A-06C6-469D-915B-BDE76E5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083-66FB-4ED3-85A5-B8D5928B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930-EF6D-4560-B0AA-4BBD99B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DB9-9E07-444A-B0B0-2383EB54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A73-069B-428B-9C3B-3345297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E05-7646-4491-BA23-61CE52B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FA6-5B10-4D7E-85E8-8C499CB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917-2A3E-42B6-95A8-71B5F83C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35360" cy="5649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955960" y="4022640"/>
            <a:ext cx="4660920" cy="1099440"/>
            <a:chOff x="2955960" y="4022640"/>
            <a:chExt cx="4660920" cy="1099440"/>
          </a:xfrm>
        </p:grpSpPr>
        <p:sp>
          <p:nvSpPr>
            <p:cNvPr id="43" name=""/>
            <p:cNvSpPr/>
            <p:nvPr/>
          </p:nvSpPr>
          <p:spPr>
            <a:xfrm>
              <a:off x="2955960" y="4175280"/>
              <a:ext cx="25844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5200" spc="-1" strike="noStrike">
                  <a:solidFill>
                    <a:srgbClr val="ffffff"/>
                  </a:solidFill>
                  <a:latin typeface="Arial"/>
                </a:rPr>
                <a:t>online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746600" y="4022640"/>
              <a:ext cx="2870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6600" spc="-1" strike="noStrike">
                  <a:solidFill>
                    <a:srgbClr val="ff0000"/>
                  </a:solidFill>
                  <a:latin typeface="Arial"/>
                </a:rPr>
                <a:t>Safety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9800" y="270000"/>
            <a:ext cx="28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Tahoma"/>
              </a:rPr>
              <a:t>Do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2240" y="1384200"/>
            <a:ext cx="33879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Post priv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about yoursel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f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Post private in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ffffff"/>
                </a:solidFill>
                <a:latin typeface="Tahoma"/>
              </a:rPr>
              <a:t>about other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57880" y="-381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9800" y="270000"/>
            <a:ext cx="28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Tahoma"/>
              </a:rPr>
              <a:t>Do yo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2240" y="1384200"/>
            <a:ext cx="33847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Post priva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about yourself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Post private in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100" spc="-1" strike="noStrike">
                <a:solidFill>
                  <a:srgbClr val="808080"/>
                </a:solidFill>
                <a:latin typeface="Tahoma"/>
              </a:rPr>
              <a:t>about other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57880" y="-3816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60400" y="3822840"/>
            <a:ext cx="6562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400" spc="-1" strike="noStrike">
                <a:solidFill>
                  <a:srgbClr val="00ff00"/>
                </a:solidFill>
                <a:latin typeface="Tahoma"/>
              </a:rPr>
              <a:t>What do you consider </a:t>
            </a:r>
            <a:r>
              <a:rPr b="0" lang="th-TH" sz="3400" spc="-1" strike="noStrike" u="sng">
                <a:solidFill>
                  <a:srgbClr val="00ff00"/>
                </a:solidFill>
                <a:uFillTx/>
                <a:latin typeface="Tahoma"/>
              </a:rPr>
              <a:t>privat</a:t>
            </a:r>
            <a:r>
              <a:rPr b="0" lang="en-US" sz="3400" spc="-1" strike="noStrike" u="sng">
                <a:solidFill>
                  <a:srgbClr val="00ff00"/>
                </a:solidFill>
                <a:uFillTx/>
                <a:latin typeface="Tahoma"/>
              </a:rPr>
              <a:t>e</a:t>
            </a:r>
            <a:r>
              <a:rPr b="0" lang="en-US" sz="3400" spc="-1" strike="noStrike">
                <a:solidFill>
                  <a:srgbClr val="00ff00"/>
                </a:solidFill>
                <a:latin typeface="Tahoma"/>
              </a:rPr>
              <a:t>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2720" y="1488960"/>
            <a:ext cx="43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How can photos/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come back to hurt yo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ffffff"/>
                </a:solidFill>
                <a:latin typeface="Tahoma"/>
              </a:rPr>
              <a:t>Who has access to your profi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67240" y="7632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79640" y="3432240"/>
            <a:ext cx="57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00ff00"/>
                </a:solidFill>
                <a:latin typeface="Tahoma"/>
              </a:rPr>
              <a:t>What's out there ABOUT YOU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700" spc="-1" strike="noStrike">
                <a:solidFill>
                  <a:srgbClr val="00ff00"/>
                </a:solidFill>
                <a:latin typeface="Tahoma"/>
              </a:rPr>
              <a:t>that you don't want to shar</a:t>
            </a:r>
            <a:r>
              <a:rPr b="1" lang="en-US" sz="2700" spc="-1" strike="noStrike">
                <a:solidFill>
                  <a:srgbClr val="00ff00"/>
                </a:solidFill>
                <a:latin typeface="Tahoma"/>
              </a:rPr>
              <a:t>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9360" y="260280"/>
            <a:ext cx="3871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0000"/>
                </a:solidFill>
                <a:latin typeface="Tahoma"/>
              </a:rPr>
              <a:t>Ask yourself a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100" spc="-1" strike="noStrike">
                <a:solidFill>
                  <a:srgbClr val="ff0000"/>
                </a:solidFill>
                <a:latin typeface="Tahoma"/>
              </a:rPr>
              <a:t>your friend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4760" y="270000"/>
            <a:ext cx="3708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300" spc="-1" strike="noStrike">
                <a:solidFill>
                  <a:srgbClr val="ffffff"/>
                </a:solidFill>
                <a:latin typeface="Tahoma"/>
              </a:rPr>
              <a:t>Staying Sa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36720" y="1393920"/>
            <a:ext cx="3975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ff0000"/>
                </a:solidFill>
                <a:latin typeface="Arial"/>
              </a:rPr>
              <a:t>Make sure only your friends can see your profi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900" spc="-1" strike="noStrike">
                <a:solidFill>
                  <a:srgbClr val="ff0000"/>
                </a:solidFill>
                <a:latin typeface="Arial"/>
              </a:rPr>
              <a:t>Know ALL of your "friends" in real life...not just on-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900" spc="-1" strike="noStrike">
                <a:solidFill>
                  <a:srgbClr val="00ff00"/>
                </a:solidFill>
                <a:latin typeface="Arial"/>
              </a:rPr>
              <a:t>Make sure your friends are doing the s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295960" y="1038240"/>
            <a:ext cx="3827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390760" y="1962000"/>
            <a:ext cx="2990880" cy="2219400"/>
            <a:chOff x="2390760" y="1962000"/>
            <a:chExt cx="2990880" cy="221940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2390760" y="1962000"/>
              <a:ext cx="299088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390760" y="40100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3013200" y="4241880"/>
            <a:ext cx="18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Arial"/>
              </a:rPr>
              <a:t>Click the picture to p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19440" y="1343160"/>
            <a:ext cx="2806920" cy="28256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84080" y="1574640"/>
            <a:ext cx="4870440" cy="2466000"/>
            <a:chOff x="784080" y="1574640"/>
            <a:chExt cx="4870440" cy="2466000"/>
          </a:xfrm>
        </p:grpSpPr>
        <p:sp>
          <p:nvSpPr>
            <p:cNvPr id="51" name=""/>
            <p:cNvSpPr/>
            <p:nvPr/>
          </p:nvSpPr>
          <p:spPr>
            <a:xfrm>
              <a:off x="793800" y="1574640"/>
              <a:ext cx="458460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7100" spc="-1" strike="noStrike">
                  <a:solidFill>
                    <a:srgbClr val="808080"/>
                  </a:solidFill>
                  <a:latin typeface="Tahoma"/>
                </a:rPr>
                <a:t>DID YOU</a:t>
              </a:r>
              <a:endParaRPr b="0" lang="en-US" sz="7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080" y="2575080"/>
              <a:ext cx="4870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9000" spc="-1" strike="noStrike">
                  <a:solidFill>
                    <a:srgbClr val="ff0000"/>
                  </a:solidFill>
                  <a:latin typeface="Arial"/>
                </a:rPr>
                <a:t>KNOW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8280" y="593640"/>
            <a:ext cx="604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80c0"/>
                </a:solidFill>
                <a:latin typeface="Arial"/>
              </a:rPr>
              <a:t>Out of all US teenag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ff0000"/>
                </a:solidFill>
                <a:latin typeface="Arial"/>
              </a:rPr>
              <a:t>with an online profile.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160" y="3352680"/>
            <a:ext cx="7567560" cy="1309680"/>
            <a:chOff x="38160" y="3352680"/>
            <a:chExt cx="7567560" cy="1309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8160" y="3352680"/>
              <a:ext cx="36129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3638520" y="3352680"/>
              <a:ext cx="3967200" cy="13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160" y="3352680"/>
            <a:ext cx="7567560" cy="1309680"/>
            <a:chOff x="38160" y="3352680"/>
            <a:chExt cx="7567560" cy="130968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8160" y="3352680"/>
              <a:ext cx="36129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638520" y="3352680"/>
              <a:ext cx="3967200" cy="13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57200" y="209556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2%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include their firs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280" y="593640"/>
            <a:ext cx="60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>
                <a:solidFill>
                  <a:srgbClr val="0080c0"/>
                </a:solidFill>
                <a:latin typeface="Arial"/>
              </a:rPr>
              <a:t>Out of all US teenag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900" spc="-1" strike="noStrike">
                <a:solidFill>
                  <a:srgbClr val="ff0000"/>
                </a:solidFill>
                <a:latin typeface="Arial"/>
              </a:rPr>
              <a:t>with an online profile..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98640" y="2432160"/>
            <a:ext cx="442764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e4e1"/>
                </a:solidFill>
                <a:latin typeface="Arial"/>
              </a:rPr>
              <a:t>29% </a:t>
            </a:r>
            <a:r>
              <a:rPr b="1" lang="th-TH" sz="3400" spc="-1" strike="noStrike">
                <a:solidFill>
                  <a:srgbClr val="ffe4e1"/>
                </a:solidFill>
                <a:latin typeface="Arial"/>
              </a:rPr>
              <a:t>include thei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500" spc="-1" strike="noStrike">
                <a:solidFill>
                  <a:srgbClr val="ff0000"/>
                </a:solidFill>
                <a:latin typeface="Arial"/>
              </a:rPr>
              <a:t>last nam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240" y="237960"/>
            <a:ext cx="193356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9360" y="736560"/>
            <a:ext cx="52513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79% </a:t>
            </a:r>
            <a:r>
              <a:rPr b="1" lang="th-TH" sz="4200" spc="-1" strike="noStrike">
                <a:solidFill>
                  <a:srgbClr val="ffffff"/>
                </a:solidFill>
                <a:latin typeface="Arial"/>
              </a:rPr>
              <a:t>post pho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0000"/>
                </a:solidFill>
                <a:latin typeface="Arial"/>
              </a:rPr>
              <a:t>of themsel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81320" y="2371680"/>
            <a:ext cx="43815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0120" y="221292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49% </a:t>
            </a:r>
            <a:r>
              <a:rPr b="1" lang="th-TH" sz="2500" spc="-1" strike="noStrike">
                <a:solidFill>
                  <a:srgbClr val="ffffff"/>
                </a:solidFill>
                <a:latin typeface="Arial"/>
              </a:rPr>
              <a:t>include the name of </a:t>
            </a:r>
            <a:r>
              <a:rPr b="1" lang="th-TH" sz="2500" spc="-1" strike="noStrike">
                <a:solidFill>
                  <a:srgbClr val="ff0000"/>
                </a:solidFill>
                <a:latin typeface="Arial"/>
              </a:rPr>
              <a:t>their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62280" y="4276800"/>
            <a:ext cx="1905120" cy="850680"/>
            <a:chOff x="2762280" y="4276800"/>
            <a:chExt cx="1905120" cy="8506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762280" y="4915080"/>
              <a:ext cx="1900080" cy="2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2762280" y="4276800"/>
              <a:ext cx="190512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98440" y="469800"/>
            <a:ext cx="4756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700" spc="-1" strike="noStrike">
                <a:solidFill>
                  <a:srgbClr val="ffffff"/>
                </a:solidFill>
                <a:latin typeface="Arial"/>
              </a:rPr>
              <a:t>These practices a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841320"/>
            <a:ext cx="5394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100" spc="-1" strike="noStrike">
                <a:solidFill>
                  <a:srgbClr val="ff0000"/>
                </a:solidFill>
                <a:latin typeface="Arial"/>
              </a:rPr>
              <a:t>UNSAFE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0" y="26859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94200" y="4965840"/>
            <a:ext cx="309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 u="sng">
                <a:solidFill>
                  <a:srgbClr val="ffffff"/>
                </a:solidFill>
                <a:uFillTx/>
                <a:latin typeface="Tahoma"/>
              </a:rPr>
              <a:t>Anyone</a:t>
            </a:r>
            <a:r>
              <a:rPr b="0" lang="th-TH" sz="1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ahoma"/>
              </a:rPr>
              <a:t>could</a:t>
            </a:r>
            <a:r>
              <a:rPr b="0" lang="th-TH" sz="1100" spc="-1" strike="noStrike">
                <a:solidFill>
                  <a:srgbClr val="ffffff"/>
                </a:solidFill>
                <a:latin typeface="Tahoma"/>
              </a:rPr>
              <a:t> be looking at your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3:47:37Z</dcterms:created>
  <dc:creator>Dennis</dc:creator>
  <dc:description/>
  <dc:language>en-US</dc:language>
  <cp:lastModifiedBy>Dennis</cp:lastModifiedBy>
  <dcterms:modified xsi:type="dcterms:W3CDTF">2007-08-27T13:52:37Z</dcterms:modified>
  <cp:revision>2</cp:revision>
  <dc:subject/>
  <dc:title>Slide 1</dc:title>
</cp:coreProperties>
</file>